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41.jpeg" ContentType="image/jpeg"/>
  <Override PartName="/ppt/media/image12.wmf" ContentType="image/x-wmf"/>
  <Override PartName="/ppt/media/image9.wmf" ContentType="image/x-wmf"/>
  <Override PartName="/ppt/media/image34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8.wmf" ContentType="image/x-wmf"/>
  <Override PartName="/ppt/media/image37.jpeg" ContentType="image/jpeg"/>
  <Override PartName="/ppt/media/image13.wmf" ContentType="image/x-wmf"/>
  <Override PartName="/ppt/media/image35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27.wmf" ContentType="image/x-wmf"/>
  <Override PartName="/ppt/media/image42.png" ContentType="image/png"/>
  <Override PartName="/ppt/media/image25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31.jpeg" ContentType="image/jpeg"/>
  <Override PartName="/ppt/media/image10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1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53A-749B-447A-B986-05A0D46C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5C0-1527-4F09-B1D6-1E7FFD7B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BC7-B870-4E70-A643-06C5227C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69A3-DE87-4E75-B539-6E1EAF3A4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AC41-4F7B-47D4-896E-EADC78B49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96C-CC83-482C-A17E-E25E7738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C782-027D-4F2B-8A23-208F4AD55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D8D-7EDB-447C-9F72-51DBD8AD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7A3-96DA-4411-8BA6-8CE98CF6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486A-692E-4A43-B453-46A66748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73A-E9C9-4BAC-8A0B-22D29E0D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DB3-D208-4383-8840-C442DC58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C8B-11DE-4983-A2FC-6EFCB309B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E70-89B4-46C5-BCFB-09AF78F3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0891-1E76-46B5-812E-B8595EDA6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3D9-D346-4434-B01F-A16401A1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FF8-ABC5-4D1B-A0E8-1A0F225CB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3166-D0B6-46C2-97C5-25876BBA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981-4352-4AD6-B1FB-B08AC07C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598-3981-4EEF-8F07-7D125302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EC1-23B1-4A69-9D01-2623E16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CBA-AE74-45F0-A72A-379085F8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C6FF-6BDD-43AB-A5F7-60928635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72C5-FACC-4B7B-8B2C-12D342DA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0C03-D604-4D51-B175-BCEE364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456-3B67-4B28-98E2-77E6E5C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4CE-E1EE-4917-A840-D04D3F2F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CF8E-AA13-4318-8CBF-D753C61C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2737-C13A-4299-836E-FE214D2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4AA-5BA5-49D6-B3C3-E7E4625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ACFC-15D1-4E5A-AF46-4239F70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292-9B97-4F1B-B6CA-14CA7CD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D0FD-ACCD-4383-8E61-4786B39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370-451D-4548-8AA8-A7FFAC9A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EEB-E5EF-43E8-8A8A-9D480E19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8A9-7242-48C9-A6D7-371E198F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1CC-4048-4CD0-B3FC-8110326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DDD-38A6-4208-B7D5-C523603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6BD-364C-4941-A070-AF0C2AA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D8E-CE76-492A-810D-A5BF5D3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125-1A0D-44DF-BEA1-C545794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C98-D2B3-4BAD-B5F0-A212B84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12E-398C-4D46-A717-9314881D0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EA3B-6266-4384-9CE2-D6B2152F2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202"/>
                </a:solidFill>
                <a:latin typeface="Comic Sans MS"/>
              </a:rPr>
              <a:t>Biolog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54440" y="571500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nclark.net/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W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rds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hands and your lab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a are dry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OCK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pulling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the lab period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90720" y="15238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burners and hotplates cool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form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ZZ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E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se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they are cool enoug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tongs and/or protectiv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lame 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flush with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unti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rning sensation 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ts will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STO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eeding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ir and ha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son recline so th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ir head is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LOWER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t of 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1787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sh eyes immediate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lenty of wat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15 MIN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yewash). If a foreig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 is lodged in the eye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allow the eye to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111240" y="3352680"/>
            <a:ext cx="2636640" cy="2819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out what substanc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was responsible for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poisoning and alert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E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57800" y="4495680"/>
            <a:ext cx="63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BLjoWjCrDq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fire-engine-mimooh-01"/>
          <p:cNvPicPr/>
          <p:nvPr/>
        </p:nvPicPr>
        <p:blipFill>
          <a:blip r:embed="rId1"/>
          <a:stretch/>
        </p:blipFill>
        <p:spPr>
          <a:xfrm>
            <a:off x="4495680" y="838080"/>
            <a:ext cx="3943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7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s can either be extinguished by smothering the flames with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blank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extinguis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use a fire extinguisher properly REMEMBER:   P-A-S-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L th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 at th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EZE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rig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P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de to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8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E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EAD &amp; FOLL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ELL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use the right type of fire extinguisher for each specific type of f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LHHS extinguishers (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A Fi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organic matter that will leave ash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paper, t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B F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flammabl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IQU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asoline, sol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ater is not a good extinguisher because it spreads the liquid a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co2"/>
          <p:cNvPicPr/>
          <p:nvPr/>
        </p:nvPicPr>
        <p:blipFill>
          <a:blip r:embed="rId1"/>
          <a:stretch/>
        </p:blipFill>
        <p:spPr>
          <a:xfrm>
            <a:off x="6696000" y="1371600"/>
            <a:ext cx="244800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LASS C F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s of a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ELECTR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puters, photocop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http://www.fifthdistrictcourt.com/"/>
          <p:cNvPicPr/>
          <p:nvPr/>
        </p:nvPicPr>
        <p:blipFill>
          <a:blip r:embed="rId1"/>
          <a:stretch/>
        </p:blipFill>
        <p:spPr>
          <a:xfrm>
            <a:off x="5148360" y="4076640"/>
            <a:ext cx="338436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MI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place Hazardous Materials Information System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3 components to the WHMIS system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MS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e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s on all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5" descr="Sample_safety_workplace_clipart"/>
          <p:cNvPicPr/>
          <p:nvPr/>
        </p:nvPicPr>
        <p:blipFill>
          <a:blip r:embed="rId1"/>
          <a:stretch/>
        </p:blipFill>
        <p:spPr>
          <a:xfrm>
            <a:off x="6095880" y="2438280"/>
            <a:ext cx="2874960" cy="388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SD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ial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ta She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ed in binders in lab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known chemic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section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ame, ingredients, physical data, fire hazards, reactivity data, toxicological properties, preventive measures, first aid measu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30636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MIS Labels – </a:t>
            </a:r>
            <a:br>
              <a:rPr sz="36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orkplac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zardous Materials Information Syste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ed 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G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. Helium, prop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mmable/Combustible ex: methane gas, acet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izing Material ex: Chromic A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sonous Infectious (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MMEDI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amp; Serious Toxic Effects) ex: cyan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sonous Infectious (Other Toxic Effects) ex: mercury, l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hazardous Infectious ex: </a:t>
            </a: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NEED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osive Materials ex: degre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gerously Reactive ex: pure so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whmis_a"/>
          <p:cNvPicPr/>
          <p:nvPr/>
        </p:nvPicPr>
        <p:blipFill>
          <a:blip r:embed="rId1"/>
          <a:stretch/>
        </p:blipFill>
        <p:spPr>
          <a:xfrm>
            <a:off x="8101080" y="981000"/>
            <a:ext cx="753840" cy="733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whmis_b"/>
          <p:cNvPicPr/>
          <p:nvPr/>
        </p:nvPicPr>
        <p:blipFill>
          <a:blip r:embed="rId2"/>
          <a:stretch/>
        </p:blipFill>
        <p:spPr>
          <a:xfrm>
            <a:off x="8101080" y="1773360"/>
            <a:ext cx="755640" cy="741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whmis_c"/>
          <p:cNvPicPr/>
          <p:nvPr/>
        </p:nvPicPr>
        <p:blipFill>
          <a:blip r:embed="rId3"/>
          <a:stretch/>
        </p:blipFill>
        <p:spPr>
          <a:xfrm>
            <a:off x="8101080" y="256536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whmis_d1"/>
          <p:cNvPicPr/>
          <p:nvPr/>
        </p:nvPicPr>
        <p:blipFill>
          <a:blip r:embed="rId4"/>
          <a:stretch/>
        </p:blipFill>
        <p:spPr>
          <a:xfrm>
            <a:off x="8172360" y="328464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whmis_d2"/>
          <p:cNvPicPr/>
          <p:nvPr/>
        </p:nvPicPr>
        <p:blipFill>
          <a:blip r:embed="rId5"/>
          <a:stretch/>
        </p:blipFill>
        <p:spPr>
          <a:xfrm>
            <a:off x="8172360" y="4149720"/>
            <a:ext cx="719280" cy="71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whmis_d3"/>
          <p:cNvPicPr/>
          <p:nvPr/>
        </p:nvPicPr>
        <p:blipFill>
          <a:blip r:embed="rId6"/>
          <a:stretch/>
        </p:blipFill>
        <p:spPr>
          <a:xfrm>
            <a:off x="8229600" y="4952880"/>
            <a:ext cx="704880" cy="69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whmis_e"/>
          <p:cNvPicPr/>
          <p:nvPr/>
        </p:nvPicPr>
        <p:blipFill>
          <a:blip r:embed="rId7"/>
          <a:stretch/>
        </p:blipFill>
        <p:spPr>
          <a:xfrm>
            <a:off x="6781680" y="5410080"/>
            <a:ext cx="685800" cy="68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whmis_f"/>
          <p:cNvPicPr/>
          <p:nvPr/>
        </p:nvPicPr>
        <p:blipFill>
          <a:blip r:embed="rId8"/>
          <a:stretch/>
        </p:blipFill>
        <p:spPr>
          <a:xfrm>
            <a:off x="7467480" y="5943600"/>
            <a:ext cx="720720" cy="7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HPS Symbol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zardous Household Product Symbol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OUSEH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ls of Severit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anger, Warning and Cau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symbols"/>
          <p:cNvPicPr/>
          <p:nvPr/>
        </p:nvPicPr>
        <p:blipFill>
          <a:blip r:embed="rId1"/>
          <a:stretch/>
        </p:blipFill>
        <p:spPr>
          <a:xfrm>
            <a:off x="1763640" y="3573360"/>
            <a:ext cx="5472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cautions related to Dissection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working with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eserved specime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in a well-ventilated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vinyl glo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all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irritating eff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hemical preservatives, rinse specimen under running water to eliminate excess and dilute what re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procedure for cuts and punctures from dissect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leaning dissecting instruments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hold sharp edges away from yo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ask the teacher re: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oper dispos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pecimens…special containers for sharps, animal tissue and preservative dispo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working with bacteriologic specimen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have open wounds or cuts on your hands, cover them with a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banda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 wear latex glo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Disinf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b bench tops before and after handling bacterial cul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handling bacteria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keep your hands away from your eyes, nose, and mouth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oroughly after handling bac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culture is spilled, cover the spill area with paper towel and flood the paper towels with disinfectant. Wait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20 minu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n wipe up the spill with more paper towels and dispose of the paper towel in a empty b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keep your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lee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work area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UT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CLE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horse around” or pla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pped or cracked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not be used. Show it to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lassware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special glass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 Us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OM &amp;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UST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protective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GLOV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b 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chemicals toget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less the teacher directs you 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um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ward your nose with one hand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ut your nose ove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er 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6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llow the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hands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ED18</cp:lastModifiedBy>
  <dcterms:modified xsi:type="dcterms:W3CDTF">2011-09-08T19:58:15Z</dcterms:modified>
  <cp:revision>100</cp:revision>
  <dc:subject/>
  <dc:title>Lab Safety</dc:title>
</cp:coreProperties>
</file>